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C10-EBB4-4450-8ACC-F4B2A81BC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482-763C-4044-B339-3B03B4D4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446-136B-45A1-870C-F1EECB62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0FB-19B4-4EA1-B4F0-4C060D15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4BB-284C-40FD-9B77-93F97C7B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FA6-4D6D-4897-B851-7B372613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2FB-11CE-4141-B3B0-9122DBD4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1943-C8AF-49B1-9FE2-9877C3E0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4ED-5A7E-4E58-B3D5-850501F7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26C-856A-4F04-9A53-1D6D1A43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587-A9D4-48BD-82ED-33B9AF0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8CA-CEDF-477B-B2D7-77337ACD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F56E-3169-45FC-8536-5B7F75A27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90720" y="82440"/>
            <a:ext cx="7391160" cy="6775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More Practice with Rat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3046320" cy="312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715000" y="3944880"/>
            <a:ext cx="3429000" cy="2913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86200" y="2514600"/>
            <a:ext cx="1820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l scored 5 goals in 9 games.  At this rate, how many goals might she score in 80 gam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14400" y="3581280"/>
                <a:ext cx="6192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533520" y="1905120"/>
            <a:ext cx="7968960" cy="64260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:  set up a ratio from what you know.  You know Lil sco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 go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 g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2600" y="2935440"/>
            <a:ext cx="8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: 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45000" y="2895480"/>
            <a:ext cx="46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a note of what the terms re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2320" y="266688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  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21320" y="373392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s a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0" y="3657600"/>
            <a:ext cx="94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267080"/>
            <a:ext cx="59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up an equivalent ratio, making sure to put the information in the correct place in the rati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know she will play 80 g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to know how many goals she might get - </a:t>
            </a: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3505320"/>
                <a:ext cx="5191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480060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, Cross multi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2880" y="5602320"/>
            <a:ext cx="16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44.4444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548640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we can’t have part of a goal, round off to the nearest whole numbe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1760" y="6100920"/>
            <a:ext cx="8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71800" y="1371600"/>
            <a:ext cx="4495680" cy="4572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Pr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se of 24 cans of pop costs $6.96.  What is the unit price? (Price for 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6120" y="2362320"/>
            <a:ext cx="43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 set up a ratio of what you kn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9216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96 :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2880" y="2743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4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6600" y="2971800"/>
            <a:ext cx="47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a note of what each term repres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8520" y="358128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as a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43120" y="3886200"/>
                <a:ext cx="1052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532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9000" y="3962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3809880"/>
                <a:ext cx="3477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277800" y="411480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Multi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4572000"/>
            <a:ext cx="40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hort cut is to just divide the cost by the number of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3480" y="6019920"/>
            <a:ext cx="46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give you the unit price (for o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080" y="568332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= $0.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is the Better Bu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hen we want to buy something, we want to know if buying a different size is a better bu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xample, at the grocery store, a 350 g jar of peanut butter is $2.88.  A bigger jar of 500 g is $4.20.  Which is the better bu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19440" cy="1468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90840" y="228600"/>
            <a:ext cx="72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out the better buy, find out the unit cos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990720"/>
            <a:ext cx="64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y set up a ratio for each one.  Remember the short cut of just dividing the numerator by the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9680" y="213372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0 g jar of peanut butter is $2.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41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3960" y="2133720"/>
            <a:ext cx="38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g jar of peanut butter is $4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14400" y="2666880"/>
                <a:ext cx="19051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19920" y="2666880"/>
                <a:ext cx="182880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200400" y="2819520"/>
            <a:ext cx="214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when you want to find unit pr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NEY ALWAYS GOES ON TOP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1880" y="4876920"/>
            <a:ext cx="78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divide each, and the one with the lowest answer is the better bu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7280" y="541008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008229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7000" y="54100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0.0084/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0280" y="5827680"/>
            <a:ext cx="38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jar has the lowest unit pr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it is the better bu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t on Better Bu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by step answer to question one on the next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380880"/>
            <a:ext cx="3657600" cy="8384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  $80 for 5 calculators        $264 for 24 calcul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90720" y="2438280"/>
                <a:ext cx="5587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162920" y="2438280"/>
                <a:ext cx="717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920880" y="1560600"/>
            <a:ext cx="7428960" cy="3682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wo different ratios for each part to find out the unit price 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0720" y="2514600"/>
            <a:ext cx="34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y divide the num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denominator to f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price for each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25600" y="3938760"/>
            <a:ext cx="3281400" cy="218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4038480"/>
                <a:ext cx="1905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÷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324480" y="4038480"/>
                <a:ext cx="23623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046680" y="4724280"/>
            <a:ext cx="34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tio with lowest quo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better buy.  Circl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ter Bu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00800" y="4495680"/>
            <a:ext cx="1905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2:47:32Z</dcterms:created>
  <dc:creator>admin</dc:creator>
  <dc:description/>
  <dc:language>en-US</dc:language>
  <cp:lastModifiedBy>admin</cp:lastModifiedBy>
  <dcterms:modified xsi:type="dcterms:W3CDTF">2007-11-27T21:22:32Z</dcterms:modified>
  <cp:revision>8</cp:revision>
  <dc:subject/>
  <dc:title>More Practice with Ratios</dc:title>
</cp:coreProperties>
</file>